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003-hoz képest a bevétel növekedés 7,7%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532-1162-483E-A23D-2F3732CC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64A-742F-4C58-8EDB-69D2137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764-9883-43F4-8CC6-8580E987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D3F-52D3-486B-95B9-21463635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CAD-540E-4104-B458-10C6BDEB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777-15BB-4B8D-ACE3-7E7FFA6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07E-6797-4E86-94FB-29AFB9C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1FC-253D-4A8D-8236-8FFDFDB0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95CC-569F-4DA8-9E9F-ECC8163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5897-EC9C-419F-B624-1C504BF9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BF25-00AB-4BAE-A107-2AFAC8C9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BFA-D9BD-4D8F-9C7D-43933A5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F840-B0F5-4D85-A560-217491A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967A-F5F3-4263-8510-FF41348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4FDF-87D8-4424-BD88-3199A25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5A09-880C-4A8A-AA35-62E463B8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D52-BFD7-4708-8C33-2AC6166E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F44-25ED-4546-BED7-C16B7298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C93-2623-4B47-8D7D-DE43A606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536-453B-434C-930A-05B6F78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B84-D2CB-4072-88B3-4E6A5EB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517-D15C-4883-A341-7BE4A46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5B9-857C-409D-AD93-A75D194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CC7-D50D-492E-A0E6-72034A0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59A-6B0E-4422-89EC-E42AB0B8CB32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635C-5F89-40D2-8818-1D401780C13C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ortugál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szítette: Juhász László HJF-IFO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t-flagg" descr="Public Holidays in Portugal"/>
          <p:cNvPicPr/>
          <p:nvPr/>
        </p:nvPicPr>
        <p:blipFill>
          <a:blip r:embed="rId1"/>
          <a:stretch/>
        </p:blipFill>
        <p:spPr>
          <a:xfrm>
            <a:off x="5651640" y="1413000"/>
            <a:ext cx="283824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ülföldi vendégéjszaká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lföldi vendégéjszaká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977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6720" cy="4606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ndégmegoszlá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3640" y="141300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gy Britannia (30.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émetország (16.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nyolország (10.4%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áci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ztronómi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íres boro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jto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í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ultúr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pítészeti műve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űvészeti alko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mésze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áltozatos szép táj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ó időjárá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zokás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inden kisebb térségnek van legalább egy évente ismétlődő ünnepsége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oimbra – Talár Égetés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antarém – Bika Viadal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iseu – Bor Fesztivá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gyar - Portugál viszo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3. októberében ratifikálták Európa Megállapodásunk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2. februárjában írtuk alá a beruházások kölcsönös védelméről szóló megállapodá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1. október 11-én, a nyugat-európai országok közül utolsónak Portugáliával jött létre a kétoldalú vízumkényszer eltörléséről szóló megállapodá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gyar-portugál alapszerződés nem született, mert az angolszász gyakorlatot követve Portugália nem köt ilyen típusú keretszerződések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rtugál befektetések Magyarországon közel 100 Millió euró nagyság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AP portugál légitársaság 2004 márciusától közvetlen légi járatot indított Budapest és Lisszabon között, ami várhatóan ösztönzően hat az idegenforgalmi kapcsolatokra 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ltalános információ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Hivatalos elnevezés: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epublica Portuguesa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Portugál köztársasá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őváros: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Lisboa (Lisszab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özigazgatási beosztás: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8 kerület (distrito) 2 autonóm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örzet (regiao autonom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Államforma: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Parlamentáris demokrá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Államfő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Jorge Fernando Branco d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ampa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rület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92 389 km2 (Az Azori-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igetekkel és Madeira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igetével együt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ngerpart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793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Hivatalos nyelv: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Portugá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Népesség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0,1 millió fő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Népesség összetétele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99% fehér, körülbelül 1% az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kori gyarmatokról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ármazó feke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allás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ómai katolik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aluta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uró - €, régebben portugal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scudo (P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öldrajzi információ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bériai félsziget nyugati partján feksz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szakon hegyes vidékek, délen száraz alacsony föld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lemző a magas hőmérséklet egész év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egmagasabb csúcsa a Serra da Estrêla, mely majdnem 2000 méter m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ezon általában igen hossz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59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549360"/>
            <a:ext cx="36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Turisztikai Régi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sta Verde (A Zöld Pa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ntanhas (Heg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sta de Prata (Az Ezüst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lanícies (Alföld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sta de Lisboa (A Lisszaboni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lga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ores és Mad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azdasá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U-ba lépés után, ugrásszerű gazdasági növeke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enlőtlen fejlődés: Parti városokba jobban koncentrálódik a fejlesztés, a belsőbb területekbe kevésb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GNP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109,2 milliárd U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GNP/Fő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10670 U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egoszlás:</a:t>
            </a:r>
            <a:br>
              <a:rPr sz="2600"/>
            </a:b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zőgazdaság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par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9%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olgáltatás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iz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’ években kezdett kibontakozni és a napjainkig tart ez a fejlőd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0-től több nemzetközi rendezvény házigazdája – új lendület a turizmusn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DP 8%-át teszi 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kosság 10%-a dolgozik a turizmusb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isztikai adat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4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19-ik volt a világ beutazó turistá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létráján, 11,6 millió főve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6300 millió eurós forgalmat bonyolíto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Átlagos vendégtartózkodás 2,2 n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dégéjszakák száma (200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földi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.590.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ülföldi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.011.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77080" cy="4890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ndégszá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5976720" cy="4869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izmusból származó bevét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hász László</cp:lastModifiedBy>
  <dcterms:modified xsi:type="dcterms:W3CDTF">2006-05-11T06:56:13Z</dcterms:modified>
  <cp:revision>10</cp:revision>
  <dc:subject/>
  <dc:title>Portugália</dc:title>
</cp:coreProperties>
</file>